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BA8-37CC-46DF-B31A-44E08A82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205B-5C66-4293-8B84-579691425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oosestrife = an introduc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tlands plant from Europe - like many species was released acciden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llast water in ships docked at port (seeds in water)  Also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herbal reme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enemies here, so sp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eliminated many native plants that provide food and cover for wildlif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 of Canada and the U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on the East Coast and has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olific, spread in water and by livestock that walk through mu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the seeds.  20,000 seeds per 1.2 square yards in som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 plant so shades other native plants and blocks the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tock doesn’t like is to won’t feed on it.  Reduces the carrying capa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razing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kill.  Regrows from roots if plant is cut, burned or spr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now is on bringing in natural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DDB-2E08-4E4B-8679-922EA29B7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132-0A09-446A-A9E1-36661330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A022-0D19-453C-B544-DC099378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evenness in a community appears more diver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g 119 fig 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icture, is walking through the community would hav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s of seeing all the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7F0F-2559-4066-8864-F1157BEA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0F7-D8D6-44F0-BEB0-C28227992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0AA-6603-4EB4-90D6-D5696118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98B6-7D52-4234-BBE1-185B27A4B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umerous groups, with most members know, are the insect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pecies have yet to be discovered, many in the tropical rain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many species? Seems to be related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6AA-EB6D-4BD5-9027-0926EEB4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A33D-4030-4A4B-AA2C-CA30B31E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DA0-8271-4820-9478-BC9A1A67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8AC8-0300-4E71-8AFD-8AA416567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551-ADCC-48B3-94A1-8CC78737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was introduced into GB because it was “cu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ut-competing the Red Squirrel which is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i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s eat acorns from o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well since most of the areas have oak (It is the dominant larg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s may ago extinct in the next 20 years (if not….will be left to area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any oa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A32F-989D-41E2-A957-E05F02CA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92D-3F3A-4A46-945E-4E779C32C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791B-E470-4803-88D8-036D4E04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71D3-8F35-480A-8085-28E3599E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tchinson is the scientist who first suggested this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lat worm stucy on page 125.  Fig 7.6  Also barnacle examp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ave an endangered species we must make sure that all the life requirements for that species are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424-FDD4-4610-AADF-6F5F39B7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DA5-04BB-41D3-A7B1-8E201F6D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1F03-52CD-464F-AFA1-2D6CFE01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F641-C844-44DF-A49C-5A7AB787C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D2C-0855-4D96-BFCB-1FDE5945C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316B-6C5F-47A6-A3B3-EED4DB48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008-CD77-49AB-AC1C-2D333B4B0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0EAF-3C64-4B73-8A32-A0C95DB9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3D7-A1F3-4BA1-920B-890FAB85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76 A.R. Wallace suggested idea or real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ctic =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tropial = cental and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aearctic = europe, north asia and nor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l = indian subcontinent and malay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an = 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B3E-E19F-4F41-BB23-F242CCDC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FBEB-390D-4774-8648-EE05D86A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371-53D4-47BE-A2EE-A7281767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7AE3-58E1-4696-B13B-3AE26F4DB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xamples = fish and marine mammals,  birds and ba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A3D9-87ED-47F3-802C-1258F821B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B38-4E6D-43FB-B19B-5FFBB642F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D88-94EF-4016-AD65-4077DB82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C004-0C3E-4C50-9F65-55BB6F604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D84-60F0-4F8B-972A-C63E32FB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509-C8AF-4A72-A6DE-FF5B1986D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radiation: classic example is Darwin’s f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diversity and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nd 2) smaller islands have fewer types of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ss likely to be found by mi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extinction is higher for smaller pops and smaller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an only support smaller pops (see pg 13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ources of species on islands = evolution and migration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ther away = fewer migr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and speciation rate - extinction rate = # of species o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s to maintain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D4F7-7287-49DB-BCD5-FFEE0533F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BEF-150A-4CBA-A613-E04B20860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D1D-FAD8-4682-BE2F-98D44BE4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DC9C-682F-4349-8251-E850D3ED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2B5-21A8-4CCE-BFAA-37620CABD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9036-8142-4BD3-A8BB-E74520B4B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0BE-01D1-4D1A-A317-3D51DDC9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580-77CD-469F-8733-C42CB573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2B4-3973-4471-9A36-757172E7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88A-C95E-4B32-878F-04FC73BE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708-2FCA-43EF-96FF-EBDFCEF1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D168-7A73-4EA6-A25B-0D282838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EB6D-C359-4113-AF61-D7D4B601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62D0-FA07-4844-8C2E-E314004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1C5B-0BAA-481B-ADD8-1F6C5E4F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E195-4752-49E6-B5B2-D292514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D8E1-AF2E-4263-985C-70C8BCD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C0C-D45F-41A4-8A9A-6BF01750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2D8-E27B-47A3-ACC9-BC13DE42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21F-2E9B-4735-B3AC-A553667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FC31-092B-4813-B0E8-F9054DCA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1F0-7EF2-4B3F-BE6E-D966D097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21D6-7F56-4069-BA33-ACC84C53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606-1DC0-4C88-B055-4206EA04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0FE-FEAA-4573-8CED-C66176F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4E5-49B9-4CE0-9A14-87015C6D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898-28F7-4204-A105-F401530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BE6-7282-426F-8F24-12BF9D38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14B-DE4E-4074-B541-F9015152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449-9B8C-4046-BEF9-814AB83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2897-C8D8-441B-91BB-49A22EF4DA0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329-94AD-46F3-B796-DCE81B204BA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7 and 8 - Biological Diversity and Biogeograph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7920" y="19051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Salmon Importance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bottleneck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5335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 hunting left only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876920" y="5867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individuals left –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s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447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major concep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Habitat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pecies diver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pecies rich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.  Species even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.  Species dominance 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nnon-Weiner Biodiversity Ind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nd do sample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w all work and solve for H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so:  Calculat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nes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each proble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Evennes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 =   H’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ln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= number of different spe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bsolute evenness =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57200" y="685800"/>
            <a:ext cx="8305920" cy="6172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w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040" y="1447920"/>
            <a:ext cx="77691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-lab work for 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swer pre-lab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1 in IN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2 and 3 become your hypothesis, under purpose on title p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S-W biodiversity index for both pictures (fig. 7.4) on page 12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lve for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Even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 all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-1188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habitat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= introduc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emic =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opolitan - very broad distrib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ut need similar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biquitous = found almost everywhere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 very different habita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species on Ear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certa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or to fogging study: Range =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- 3 m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ter study: 10 -100 million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a collage of biodiversity-related images. Copyright of Flinders University. Individual images used with permission.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actions Between Spe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0666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in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Competition:  negative for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228240"/>
            <a:ext cx="731340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Symbiosis:  both bene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very common; exists amongst most plants and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69800" y="0"/>
            <a:ext cx="73134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Predation - parasitism:  pos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one and negative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biological evo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990360"/>
            <a:ext cx="731376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t’s the change in inherited characteristics of a population from generation to gener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are some process that lead to biological evolu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568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 Dominance and Diversity: The Competitive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tive exclusion = 2 species with exact same requirements cannot coexist in the same habitat.  They will compete and the more fit one will win out and pers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0" y="60958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28600" y="228600"/>
            <a:ext cx="1828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7.6  A classical experiment with flour beet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F7_6"/>
          <p:cNvPicPr/>
          <p:nvPr/>
        </p:nvPicPr>
        <p:blipFill>
          <a:blip r:embed="rId1"/>
          <a:stretch/>
        </p:blipFill>
        <p:spPr>
          <a:xfrm>
            <a:off x="0" y="0"/>
            <a:ext cx="93726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2840" y="24444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-360"/>
            <a:ext cx="83059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: how species co-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bit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org lives as compa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es to survive, which is its’ ecological n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14040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2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s can be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of niche a species will occupy with no competitor is called its’ fundament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in which it actually lives, if it is having to compete, is called its’ realized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400800" y="6400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" y="228600"/>
            <a:ext cx="4876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7.7  The occurrence of freshwater flatworms in cold mountain streams in Great Brita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F7_7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vironmental Factors That Influence Diversity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ity varies from place to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, greater in lower la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72840" y="1440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5335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ical gradient:  the change in relative abundance of a species over an area (ie: change in elevation in the mtn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F7_10"/>
          <p:cNvPicPr/>
          <p:nvPr/>
        </p:nvPicPr>
        <p:blipFill>
          <a:blip r:embed="rId1"/>
          <a:stretch/>
        </p:blipFill>
        <p:spPr>
          <a:xfrm>
            <a:off x="304920" y="2514600"/>
            <a:ext cx="883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400800" y="6400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8600" y="228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7.10  Change in the relative abundance of a species over an area or a distance is referred to as a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cological gradi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F7_10"/>
          <p:cNvPicPr/>
          <p:nvPr/>
        </p:nvPicPr>
        <p:blipFill>
          <a:blip r:embed="rId1"/>
          <a:stretch/>
        </p:blipFill>
        <p:spPr>
          <a:xfrm>
            <a:off x="304920" y="1295280"/>
            <a:ext cx="8839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237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that increase or decrease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crease divers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Physically diverse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Mode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mall variation in env.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High diversity at one trophic level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increases diversity of another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tations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160" y="-380880"/>
            <a:ext cx="8458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ecrease 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Environmental st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Extreme environmental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evere limitation of an essential resour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Extreme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Recent exotic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.  Geographic isolation (island effec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6600" y="14400"/>
            <a:ext cx="690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greatly affect divers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and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ne species over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pulat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diversity in an area may change over time, seasons, decades, centuri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647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ography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s and numbers of species varies greatly from place to place.  These large-scale global patterns are calle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F7_11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2556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ic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“realms” were identified in 1876 based on the types of animals found t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member: classification of orgs are based on evolutionary relationships or similar character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28600" y="228600"/>
            <a:ext cx="4495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3  The major vegetation realms are also based on genetic fa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F8_3"/>
          <p:cNvPicPr/>
          <p:nvPr/>
        </p:nvPicPr>
        <p:blipFill>
          <a:blip r:embed="rId1"/>
          <a:stretch/>
        </p:blipFill>
        <p:spPr>
          <a:xfrm>
            <a:off x="304920" y="1066680"/>
            <a:ext cx="883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drift explains the origin of these provinces as land masses periodically unified (genetic mix and spread of species) and then separated (isolation and spec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ntinent has diverse climates and habitats so diversity of species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 = a kind of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environmental conditions (selective pressures) lead to evolution of orgs similar in form and function but not genetic heritage or internal make-u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3  Global distribution of the major land bio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5" descr="F8_13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gent evolution occurs when a pop. is separated and evolves in isolation from main groups, often under different selective pressures.  They have common ancestry and retain some common characteristics of their ancestors. (ex: marine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473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es on variation of individuals within a species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tic diversity is ke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ose orgs with traits that make them better fit or adapted survive well, reproduce more and pass these helpful traits on to their offsp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ppered moth = classic exampl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0  Evolutionary divergence among honeycreepers in Hawa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F8_10"/>
          <p:cNvPicPr/>
          <p:nvPr/>
        </p:nvPicPr>
        <p:blipFill>
          <a:blip r:embed="rId1"/>
          <a:stretch/>
        </p:blipFill>
        <p:spPr>
          <a:xfrm>
            <a:off x="1143000" y="843120"/>
            <a:ext cx="72388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observe adaptive radiation: species evol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y separate into smaller groups, often on different islands, each adapting to a more specialized role (ni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es diversity and isla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8.11 Idealized relation of an island’s size, distance from the mainland, and number of species. Pg 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F8_11"/>
          <p:cNvPicPr/>
          <p:nvPr/>
        </p:nvPicPr>
        <p:blipFill>
          <a:blip r:embed="rId1"/>
          <a:stretch/>
        </p:blipFill>
        <p:spPr>
          <a:xfrm>
            <a:off x="0" y="1066680"/>
            <a:ext cx="861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213080" cy="373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648320" y="2585880"/>
            <a:ext cx="4114800" cy="4043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58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 by Ken Mi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tion (evolution of a new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ographic isolation of two populations of the sam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They each evolve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tually differences accumu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352680" y="2971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isolation can occur due to mutations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5486400" y="35812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uring migration different selective pressures may be encounte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s may become separa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Genetic Dri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anges in gene frequency of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 due to chance - not due to being better adap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y greatly impact small popula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angerous for rare and endangered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27:05Z</dcterms:created>
  <dc:creator>santiago high school</dc:creator>
  <dc:description/>
  <dc:language>en-US</dc:language>
  <cp:lastModifiedBy>tosborne</cp:lastModifiedBy>
  <dcterms:modified xsi:type="dcterms:W3CDTF">2010-10-22T20:29:50Z</dcterms:modified>
  <cp:revision>56</cp:revision>
  <dc:subject/>
  <dc:title>Chapter 7 - Biological Diversity and Biogeography</dc:title>
</cp:coreProperties>
</file>